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8D0-9432-453C-9173-50B70E83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71B-37FE-4AC3-A933-6615DF27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012-13AB-4293-888D-560501D3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6EF-5C76-459C-8B90-3662B47E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F36-117B-4058-B07E-75EE77ED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374-0351-4462-A83A-3C2AAA23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106-A910-42D2-B509-81C05A53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4CC-2FC1-428F-ADA7-A527EF52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DCE-5116-4CDB-9EF1-A7972FFA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B2C-D312-474D-AFF7-40C70785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29AC-9E9F-4EB3-A68D-946214F3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8B2D-E839-449B-A3E0-338F9BA4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9F79-D9A3-411C-857B-405E14250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456000" cy="3240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50920" y="692280"/>
            <a:ext cx="475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globalizzazio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19640" y="1125360"/>
            <a:ext cx="2233440" cy="1008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596600">
            <a:off x="1134000" y="-800640"/>
            <a:ext cx="1008000" cy="3276720"/>
          </a:xfrm>
          <a:prstGeom prst="downArrow">
            <a:avLst>
              <a:gd name="adj1" fmla="val 50000"/>
              <a:gd name="adj2" fmla="val 8126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zi di tras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5627600">
            <a:off x="1134360" y="639000"/>
            <a:ext cx="1008000" cy="3276720"/>
          </a:xfrm>
          <a:prstGeom prst="downArrow">
            <a:avLst>
              <a:gd name="adj1" fmla="val 50000"/>
              <a:gd name="adj2" fmla="val 8126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zi di comun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1989000"/>
            <a:ext cx="107964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162864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2060640"/>
            <a:ext cx="7189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203280" y="4437000"/>
            <a:ext cx="144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28000" y="33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4221000"/>
            <a:ext cx="129564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u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3357720"/>
            <a:ext cx="1873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i di v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ù simi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9640" y="1341360"/>
            <a:ext cx="223344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olazione di 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3716280"/>
            <a:ext cx="223236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720" y="1700280"/>
            <a:ext cx="576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5589720"/>
            <a:ext cx="1944720" cy="93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tà multietn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8:35Z</dcterms:created>
  <dc:creator>studente</dc:creator>
  <dc:description/>
  <dc:language>en-US</dc:language>
  <cp:lastModifiedBy>studente</cp:lastModifiedBy>
  <dcterms:modified xsi:type="dcterms:W3CDTF">2016-11-21T10:31:30Z</dcterms:modified>
  <cp:revision>5</cp:revision>
  <dc:subject/>
  <dc:title>Diapositiva 1</dc:title>
</cp:coreProperties>
</file>